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C521-72A0-4086-AF22-970965970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06B9-DA9E-479F-B798-DFE2EEF3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DC25-7233-4B7A-B04F-B6C5E503D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A7F4-B7EE-42CC-89E1-65C258C6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FE3F-193F-4534-8E80-5658697ED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CE6D-F492-425F-A63C-5471638C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2529-19D6-47AC-BBF0-7B85BC34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0CAF-D974-47AD-B3F6-7D997D7C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C70C-A202-4C2C-A281-4DE9DE49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1F4E-5B0B-441B-9256-293D8FE3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6DA2-257F-47F7-8509-33284D73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F69E-9520-4A33-934D-A86E8316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C5FA-6AFF-4E91-8906-29661A62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5C8A-C4D3-4847-A5AB-B92AA103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77C0-C848-44FD-A84F-36E27495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0A0D-D018-460D-BEDF-186E9A17A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989A-9072-40CE-9B97-294D390D9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9990-B220-4178-BBF0-11DC59AE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8FFF-D72A-40C2-B3F5-E60C1F58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D888-C82E-4406-A12C-C34025F8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6A34-4F40-48E6-A616-D54659ED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0A8C-AFBC-4B8C-AAF4-3CCFE020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9E11-F52C-4AFE-9A41-E6A07202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DF19-C189-4D46-BB83-B1F1286A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333F-22AF-43F9-9B28-EDADFE8F8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4E84-B9AE-4326-B63E-B9BB6D010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upporting Early Literacy Lear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Session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Julie Zrn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ding to Childr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Children develop a love of literature and good boo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Children gain practice in visualizing (decontextualising) events and obje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Children extend their imagination and can picture other possible worl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Children expand their vocabulary and understanding of sentence struct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Children develop familiarity with setting, plot, characters, climax, resolu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Children are better able to predict and appreciate new stor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ding to Children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lps children t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arch for connections between prior knowledge and new information re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e the most important ideas and themes in a tex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k questions of themselves, the author and the tex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eate visual and other sensory images from text during and after read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ding to Children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lps children t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w inferences from texts . . . read between the li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nthesize what has been read . . . make connections between texts and apply what is read to other texts and activit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tilize a variety of fix-up strategies to repair comprehension when it breaks dow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954440" indent="-21708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Kee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ding to Childr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prehension prompt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ell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embering to tell what is import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lling it in a way that makes sen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ying not to tell too mu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ding to Childr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prehension prompt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ing inferen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ding between the li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ten open-ended rather than predicting outcomes, events or actions that can be confirmed or contradic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y remain unresolved at the end of the st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ding to Childr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prehension prompt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ing inferen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er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ding to Childr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prehension prompt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ing important ide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ft and sort inform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decisions about what information needs to be remembered and what can be discard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ding to Childr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prehension prompt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nthesizing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king individual pieces of information and combining them with our prior knowledge, forming a new idea or idea from the pieces of inform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ing synthesizing concrete – baking a cake, jigsaw puzz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led/Interactive Wri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the Modelled/Interactive Writing time to demonstrat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to use a shared experience to help plan your wri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to engage in a short conversation to decide on what your piece of writing will s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nt conventions and connections between print and illustr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words 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nnection between reading and wri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led/Interactive Wri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, talk about and teach how t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your writing interes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sure your writing is clear and coher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ganize your though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appropriate vocabul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appropriate conventions and spell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vise, edit and che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different gen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sent a point of 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 good readers . 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n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 reading is meaningfu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ist that it makes sen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awareness of the story to predi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read to confirm or fix-u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ways attempt to SC when it doesn’t make sen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comments or react to the meaning of the st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d with phrasing and inton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led/Interactive Wri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, talk about and teach how to make your writing interesting by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nteresting and exciting words and phra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dialog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reading to check your wri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unusual or interesting star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eiving constructive respon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led/Interactive Wri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, talk about and teach how to have a clear sequence in your writing b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lking about the beginning, the middle and the e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lking about the writing before you sta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reading to check how your writing soun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ting feedback from oth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led/Interactive Wri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, talk about and teach how to revise and edit your writing b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monstrating how to check for order, choice of words and writing conven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ating an editing checkli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reading to check yoursel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led/Interactive Wri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, talk about and teach how to check your spelling b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arning a bank of high frequency wor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tending the bank of known wor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owing how to link out from a known word to get to a new and unknown wor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owing how to stretch out a word and record the sounds you hear to get to a new and unknown wor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owing how to clap the syllables in a new and unknown wor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reading and underlining words you are not sure o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led/Interactive Wri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, talk about and teach different writing styles and different genres b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phasising the purpose of different gen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sting the features of different gen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ing sure you are demonstrating different gen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viding examples of different genres in the reading texts you prov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 good readers . 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no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to use all sources of information in an integrated w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Meaning, Structure and Visual sources of information toget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ice and attempt to self correct any mistak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 good readers . .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no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ounds and meanings of our language are mapped specifically to the way language looks in pri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 phonemically aw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phonics knowled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 becoming independent problem-solv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 good readers . 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no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at some words need to be memorized and recognized instantly without sounding ou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d high frequency words automatically, very quickly and with little conscious though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 good readers . .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n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is important to use those words and spelling patterns you already know to help you quickly get to new and/or more complex wor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d a growing number of common spelling patterns at a level of automatic recogni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k for and recognize common spelling patterns with little conscious though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not get bogged down in detai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 good readers . 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Kno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you have to be actively engaged in understanding each text at high levels of comprehen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think about the text and their own comprehension before, during and after they re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utilize effective strategies used by good comprehend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miliar Reading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ral readings allow for increased familiar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iliarity brings awareness of plot and characters, of meanings, of language structures and words that carry mean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 each reading the task is new and challenging but the child can bring more knowledge to 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a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miliar Rea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iliar Reading helps children t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arn to be read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w on their language resources and knowledge of the worl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d with phrasing and fluenc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t into place smooth orchestration of behaviours necessary for effective read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chestrate behaviours they have already learn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a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04:10:12Z</dcterms:created>
  <dc:creator>JZrna</dc:creator>
  <dc:description/>
  <dc:language>en-US</dc:language>
  <cp:lastModifiedBy>ZrnaJ</cp:lastModifiedBy>
  <dcterms:modified xsi:type="dcterms:W3CDTF">2011-04-01T02:58:26Z</dcterms:modified>
  <cp:revision>15</cp:revision>
  <dc:subject/>
  <dc:title>Supporting Early Literacy Learning</dc:title>
</cp:coreProperties>
</file>